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067-A3A7-4A73-86F9-CD3D4B8F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57B-791B-41A3-B660-F40B392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917-F03E-4ADF-B74C-5200E36A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223-D17B-42B5-8F17-612A5CAC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1FAA-B90A-4B7A-9A1A-C5355DC3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F286-679F-411C-82BF-E5E62B17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7313-140E-49B0-A774-91AA05D4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1629-1BE6-4E17-A21F-BA9B0A4A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A574-9BB5-4A5D-88F5-644F667A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5061-2A17-43BB-B492-6B5320B7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4263-1ED6-4355-8413-D1E999D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B81-A7EF-4BD5-A805-0DC82B32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D3BC-BF4E-406D-9C78-9A8FD77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A6BC-659D-4C44-AA16-A467E93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FAA8-2EA0-40E8-B056-25F58368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8FF-8E06-49F1-BA79-5E233936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BD77-8961-41D8-BCD5-FD721336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324-61A2-4B7F-BE5A-FF7CA0E2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B34-8556-4DF4-B144-17111ED0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264-D67C-4610-9DC7-98D3686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099-8AC8-411D-94D0-A12F41F5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AB2-383D-4D96-9BC4-779C01D3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2CB-E354-455D-8A8C-F860C5C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E9F-2952-4EFF-BD8D-22DAE61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cc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6379-8765-4C49-A01B-96DD0128E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00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F18-110D-4BCF-8227-7E579DC0E24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Chapter 1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Measureme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Units of Measu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133720"/>
            <a:ext cx="6476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tric System (SI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a decimal system based on 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d in most of the wor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cc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d by scientists and hospita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nits in the Metric System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ength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meter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  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liter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 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s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gram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  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ff00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Celsius 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Times New Roman"/>
              </a:rPr>
              <a:t>°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ating a 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every measurement there i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70000"/>
              </a:lnSpc>
              <a:spcBef>
                <a:spcPts val="901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umb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followed by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70000"/>
              </a:lnSpc>
              <a:spcBef>
                <a:spcPts val="901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i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om measuring de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32484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is the unit of measurement in each of the following examples?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atient’s temperature is 102°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ack holds 5 lbs of potato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It is 8 miles from your house to scho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bottle holds 2 L of orange so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°F (degrees Fahrenhei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bs (pound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i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 (liter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measurement in metric un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ohn’s heigh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1.5 yard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 fee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2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volume of saline in the IV bott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 liter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 quar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2 p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mass of a lem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2 ounc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2)  145 gram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0.6 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53200" y="228600"/>
            <a:ext cx="19908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John’s heigh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2 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 volume of saline in the IV bott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 lite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 mass of a lem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45 gram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You are making a measurement when yo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eck you weigh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ad your wat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ke your temper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igh a cantalou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kinds of measurements did you make toda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9627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andards of 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we measure, we use a measuring tool to compare some dimension of an object to a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38480" y="3505320"/>
            <a:ext cx="253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382320"/>
            <a:ext cx="67770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me Tools for Measuremen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9666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286000" cy="62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52680" y="2438280"/>
            <a:ext cx="978120" cy="1117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362320" y="4572000"/>
            <a:ext cx="20574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617040"/>
            <a:ext cx="54100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rom the previous slide, state the tool (s) you  would use to meas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temperatu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 volum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C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9933"/>
                </a:solidFill>
                <a:latin typeface="Times New Roman"/>
              </a:rPr>
              <a:t>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weigh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617040"/>
            <a:ext cx="56386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 previous slide, state the tool (s) you  would use to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temperatu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thermometer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olum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measuring cup,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graduated cyli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wat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we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scale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easurement in Chemist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chemistry w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o experi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asure quant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51"/>
              </a:spcBef>
              <a:buClr>
                <a:srgbClr val="ff3399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se numbers to report measur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95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520" y="617040"/>
            <a:ext cx="741996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are some U.S. units that are used to measure each of the following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 length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 volum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 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67480" y="3200400"/>
            <a:ext cx="103032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me possible answers a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. length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ch, foot, yard, mil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. volum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up, teaspoon, gallon, pint, quart</a:t>
            </a:r>
            <a:r>
              <a:rPr b="1" lang="en-US" sz="3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. weigh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unce,  pound (lb), t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. temperature 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01:28:12Z</dcterms:created>
  <dc:creator>Karen Timberlake</dc:creator>
  <dc:description/>
  <dc:language>en-US</dc:language>
  <cp:lastModifiedBy>Timberlake</cp:lastModifiedBy>
  <cp:lastPrinted>1999-05-16T17:54:20Z</cp:lastPrinted>
  <dcterms:modified xsi:type="dcterms:W3CDTF">2002-10-03T13:50:28Z</dcterms:modified>
  <cp:revision>8</cp:revision>
  <dc:subject/>
  <dc:title>Chapter 1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